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52B325-1113-4CAE-9B47-94DD478C91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2D34F0-0207-4739-BBFC-8A1B9943DB1B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E4AB-DB51-4136-8057-D1422AF52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C94C-0C19-489A-A258-D2E52CD7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DB321-B233-42C6-B9C7-AC6D61A5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31BAB-572F-4257-9273-5A25CEF3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7B117B-A327-477B-946D-464A2CE5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174B3-8F2B-401D-B51E-61B97440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73626D-B0B4-4052-B421-CFEA1D59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BCA70-99E6-4A6D-BE02-33BA6DEC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4FA8B-515A-402D-8709-59C1A9BE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FE17D8-2CFE-43DA-B12A-A0B6FA95C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6416A-CA61-405E-8D9A-6456C517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8782D0-DA42-4057-A444-1BE40A38A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427B-C46D-436F-8ED3-069060B80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D58CE1-56DD-4111-8089-B444A2A6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1802D-37B3-4D17-ABCB-1AC90A6C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378FDA-1FAC-472A-BED4-A1E92416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776807-B502-4FCD-ADD6-4A202929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1F5A5E-7E5E-44D1-9A8D-767AF535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0C9365-CE4A-44BA-ABAD-856ADFDF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8BB4EF-AB53-426F-8328-1675B952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B51CCF-2992-450B-B698-15745845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6527F7-5C20-408E-AA46-63AD2E82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2A53C5-A6A0-4E2E-BE03-E067FF4EA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B280-588C-4DCC-9B31-4E669B59E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83E27E-2A84-4048-B55B-0235E9707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FE346-9187-4ADC-B07B-C89A1D5AB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2CAB9-15AC-4DFE-8528-C4A26A8F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2A699-69AF-4206-82E3-858DBBC3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721A0-3389-4530-8B68-3C01548C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A7DB23-840A-4FF3-8B72-25F83BE6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4A6D2-7E7C-4D4A-A644-DDA4B559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10815-CBE2-48A8-9090-01EF03DE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C30D8-F631-4AEF-8CA2-2A416442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CD8C1-6940-4220-851B-B55B51CE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6890-8702-4C95-BBED-C0DAB8DCF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425BC-BD4F-486F-8BF1-514AFC2E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020D6-4F81-4DD5-A76D-2C2153DFD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70FC5-C051-43CA-A9B9-6CFF6A579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E7BB-2E46-4FB5-8479-E7D232FD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0149-FA68-4DB2-BA1F-3D247A16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417E-C322-4F07-9A21-30F47C1E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9217-009E-42EE-B289-0431607A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0B8B-6B31-4BE5-88CA-5848C6B6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F88A-1522-4AA7-97B5-16A9A841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0B5A-EDB3-4D04-BB59-2434638B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AA7A-4071-40DA-9A92-AB7DF0AF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2BA6-0461-4044-B1D9-65DEE17D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CF63-D560-40D6-A8F1-30003BAC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B264-FAFD-4120-A27C-595D43A28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3E8D-D3B9-4F58-AE2C-B1B58CB59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ACB51-8580-49A3-A973-3245F409F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8E240-8A0A-474D-A83E-7FCF1D5D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D166D-667A-4496-894E-EC983187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4CAE7-19CB-4EB2-8E8F-50BCAFBC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592CB-4329-4079-9CB0-D3B35428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16C0-E610-4779-B852-FE1B63ED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BC015-46D9-4768-87BB-FC3198C3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595F5-6E8F-4398-B5EB-6C74DB07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869E0-98BD-4F3C-8F16-AC6D73FA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599E8-96E4-4175-9252-03D5ED5E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D62A1-0438-4334-AE45-A9181BE6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3759E-8948-426B-89AE-BADD6DEB0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78906-6056-4DBB-B773-9F7C13BC2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57029-6F67-4428-BBAE-073578D58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CBF13-A390-41C4-97BE-68188B19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5B1E2-ED99-4CEF-8783-5066467D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0B0B-A9F3-48CB-BB16-5C8883C1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7AE23-61C9-4C6D-BF6C-65451EB6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847D4-E910-435C-BF5F-CDE3BF12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475BA-BCEE-4208-868F-9974D120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B24E9-7EF9-4D19-9D67-D95F23FD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039CC-7F00-4946-AFD3-2E26214C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516CB-1946-4657-AB0F-6FBB37C1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1E131-F872-4035-89BE-07589349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3D099-86FD-4C9C-938D-3265E47A0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6689A-F777-4FB5-8762-1A0B60A38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27B4F-1E6E-4320-A507-F57F70A5F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AAE8-3DE3-4795-8E74-4913A0F6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4B008-3D55-4F22-A862-54E5D76A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3D7FE-5A95-40D8-8156-2ADF654C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14C0D-FF12-4E62-9800-B94AA9FA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6EF93-9604-42A9-A5A0-F5C1A849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B83A6-84DF-445D-82D2-679BEFA0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960C1-D200-4A9D-AB30-34F9E847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C4BD5-3B50-4880-8ED8-E7B0E18A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52455-2AEF-40B4-A376-025373F2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2487D-E2F7-4B43-9E92-15C6D9A3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DFC85-3182-47AD-B1B8-692C15253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A23E-22CD-4B71-B936-7F11A3F5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8DD58-E7BE-4410-8734-FFCB4E663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3D7D7-4AE3-4A3D-BA0D-642A1B3CE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31A75-8FD6-4E19-BB8C-E6233C92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8F5FD-6052-43FE-955B-B5E39A1C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B3B56-C5B5-4EFF-B540-AD309A5E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CFA62-2A03-4FB7-9BA9-9C664ACE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F83B8-A5E4-4C76-94D7-D212E950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B689D-5798-4C63-8888-11CBD06F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7D17D-6107-461B-8952-43F5F286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F7E00-73FD-462B-9F74-87FBDA0D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B117-6708-4475-B971-7CFC071D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C186F-6EE7-4065-BD39-DEBFE147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E8377-159C-4144-B547-1BD07CC17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C5F4D-2B2B-4D82-AF36-7C06E2846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806BE-7018-418A-B59D-D8241DAFE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21DEF-E060-4E17-93A3-F16E5675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7470C-B238-402D-ACE5-7E662A49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9D07C-CDDD-4F44-A4AE-EB13CE59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D5807-A87C-466B-BA4C-FB0B843B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2E078-528B-485D-BAEB-71DBA771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2E284-AA04-4984-9F2E-ADB52100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DE55-0712-4B9A-A582-5FABAF94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185DA-75B6-4370-965B-3C49A913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D4FA7-7A51-4703-BF46-259F4954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A3C21-7547-4CFD-9CC1-FF1A4D6E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B3623-F938-4051-A453-8C5EBB897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5D8F4-A4FD-4EA4-A60A-D19B0B14F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F8836-88B7-477A-8442-4AB484930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F3A9E-3370-422D-950B-F3C52C3C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37489-2FAE-444F-8D99-7593B25F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6E6C6-4E18-4A8A-9BAA-C79085A7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A037E-E48A-4AAF-B08C-75FDDD55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BC62-90DB-4D82-B1E2-2C793416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9E923-ED6E-4AB5-9E83-2C521A0E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95C16-801D-439B-BAF8-94F9F77F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2A485-0075-4FEB-9392-F77ABFC5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681DA-90DC-4F5B-B519-55258220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F71AF-36EC-4D0A-A79D-A3D14D8E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0A1C2-1740-44A1-B7FF-C81BA2346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2C855-2014-4A57-A26C-AA094E845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26C34E-DEE5-496A-87D7-99E08D3E9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297DD0-78D2-44BE-994B-2F8D7DBD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3BC7AA-02DE-4A47-B166-6995947B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C0F210-701D-4581-8BDE-DF061BE64D39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8CE78C-AFA4-4930-A288-4FC125D070AD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AD3CC8-0192-44FE-B938-B348F2EF6426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1F0BD7-D294-4330-B842-30A4ECFF42B1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A126C5-488B-4010-9596-B3851656353A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AC935D-3609-460C-A091-CC9C1C68EBD4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CDD642-5F4D-4AA2-AD72-2DB47A423877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13CB0B-433D-4C15-BA30-1A84D6FC437F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5560C8-132C-4EE3-B261-DE5C86A55EF2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6D46C0-2BA6-4B5B-A137-280E314A2BFC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90A4BF-C71D-4BDF-85F6-3DA2C688A2CE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3889440" cy="129672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900" spc="-1" strike="noStrike">
                <a:solidFill>
                  <a:srgbClr val="9973ff"/>
                </a:solidFill>
                <a:latin typeface="Gill Sans MT"/>
              </a:rPr>
              <a:t>ŽSV IZ INFORMATIKE I RAČUNALSTVA ZADARSKE ŽUPANIJE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773440" y="2420640"/>
            <a:ext cx="3743280" cy="2663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AD S UČENICIMA S TEŠKOĆA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RTA KLOBUČAR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G.PAED.SOC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0920" y="804600"/>
            <a:ext cx="74041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10920" y="1989000"/>
            <a:ext cx="74041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ADRŽAJ EDUKACIJE: Operativni sustav Windows 1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CILJEVI: Učenik prepoznaje i uz pomoć može opisati neke temeljne programe koji su dio operacijskog sustav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AKTIVNOSTI:  uz pomoć nastavnika prilagođava korisničko sučelje operacijskog sustava svojim potreb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TRATEGIJE PODRŠKE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smjeravati njegovu pozornost na nastavne sadržaje, provjeravati ga individualno, osigurati kratkotrajan odmor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ilagođavanje teksta (uvećanje i pojačanje tiska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sticanja u tekstu (uokviravanje, podcrtavanje)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raščlanjivanje sadržaja na manje cjelin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Svaki učenik je poseba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spjeh ovisi o puno čimbenika, posebice o odnosu prema školskim obveza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Djeca s istom teškoćom ne moraju imati iste potrebe u nastav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Ocjenjuje se trud!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df2f5"/>
            </a:gs>
            <a:gs pos="100000">
              <a:srgbClr val="f2b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HVALA NA PAŽNJI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2" name="Picture 2" descr="tweet picture"/>
          <p:cNvPicPr/>
          <p:nvPr/>
        </p:nvPicPr>
        <p:blipFill>
          <a:blip r:embed="rId1"/>
          <a:stretch/>
        </p:blipFill>
        <p:spPr>
          <a:xfrm>
            <a:off x="1692360" y="2060640"/>
            <a:ext cx="60483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JČEŠĆE TEŠKOĆ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1719000"/>
            <a:ext cx="905976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čitanja i pisanja (disleksija i disgrafij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pažnje i koncentraci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Intelektu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Emocion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2" name="Picture 9" descr="Slikovni rezultat za kids"/>
          <p:cNvPicPr/>
          <p:nvPr/>
        </p:nvPicPr>
        <p:blipFill>
          <a:blip r:embed="rId1"/>
          <a:stretch/>
        </p:blipFill>
        <p:spPr>
          <a:xfrm>
            <a:off x="3203640" y="3068640"/>
            <a:ext cx="51213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RIJENTACIJSKA LISTA TEŠKOĆA (NN 24/1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Skupine vrsta teškoća su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1. Oštećenja vid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2. Oštećenja sluh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3. Oštećenja jezično-govorne-glasovne komunikacije i specifične teškoće u učenju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4. Oštećenja organa i organskih sustav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5. Intelektualne teškoće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6. Poremećaji u ponašanju i oštećenja mentalnog zdravlj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7. Postojanje više vrsta teškoća u psihofizičkom razvoju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UČENICI S TUR SE ŠKOLUJU PO RJEŠENJU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individualizirane postupke (čl. 5.)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li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prilagodbu sadržaja i individualizirane postupke (čl. 6.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(navedeno se odnosi na REDOVITE PROGRAME!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Pravilnik o osnovnoškolskom i srednjoškolskom odgoju i obrazovanju učenika s teškoćama u razvoju (NN 24/15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EŠKOĆE U UČENJU I INFORMAT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roces (slijed) nastavnog sat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Održavanje pažnj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osvećenost detaljima (koraci koji se moraju slijediti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Razumijevanje gradiva (umjesto „štrebanja”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čenje koraka napame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Snalaženje na ekran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Korištenje oprem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VIJEK PROVJERAVATI I PO POTREBI VRATITI NA KORAK KOJI NIJE ODRAĐEN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ZRADA IOOP-A: KAKO I ZAŠT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OOP – individualizirani odgojno – obrazovni program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SPECIFIČAN za potrebe djeteta!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e možemo pretpostaviti da isti odgovara svakom djetetu s teškoća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zrađuje ga nastavnik/učitelj uz pomoć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poznaje svoj nastavni predmet, proces učenja i očekivane ishode, a stručni suradnik poznaje potrebe uče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Zamišljen kao program koji djetetu omogućuje praćenje nastave s obzirom na svoje potrebe, a nastavniku olakšava pripremu nastave vrednovan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AKO PISATI IOOP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28560" y="1412640"/>
            <a:ext cx="78868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dobije od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omogućiti više vremena za aktivnost, podijeliti zadatke u više manjih cjelina, usmjeravati pažnju, izbjegavati prepisivanje, preferirati usmenu provjeru znanja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INICIJALNA PROCJENA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: Kako nastavnik vidi učenika u odnosu na predmet?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TEMELJITI NA JAKIM STRANAMA! 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 motiviran je za sve sadržaje, primjenjuje sva naučena pravila, uspješno rješava različite vrste zadataka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ADRŽAJ EDUKACIJE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tema koja se obrađu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rad s u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CILJEVI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koja znanja će usvojiti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samostalno ili uz pomoć učitelja/učiteljice rješavati jednostavne probleme koji se koriste ulaznim i iz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hr-H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39640" y="692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AKTIVNOSTI ZA UČENIKA/UČENICU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npr. učenik uz pomoć slaže jednostavan program služeći se naredbama ulaza, pridruživanja i izlaz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STRATEGIJE PODRŠKE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(prilagodba metoda, sredstava, oblika, postupaka, zahtjeva): koje metode će nastavnik primijeniti kako bi obradio temu u skladu sa specifičnim potrebama tog učenika/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np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osigurati kratkotrajan odm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prilagođavanje teksta (uvećanje i pojačanje tisk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isticanja u tekstu (uokviravanje, podcrtavanj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raščlanjivanje sadržaja na manje cjel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IMJER ZA IOOP (5.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442520" y="1413000"/>
            <a:ext cx="7016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Opis teškoć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ove teškoće proizlaze iz potreba povezanih sa specifičnim teškoćama čitanja i pisanja te teško održivom pažnjom i koncentracijom.  Učenik ima pozitivan odnos prema šk. obvezama. Pamti slikovite primjere, usporedbe, slike itd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u je potrebno individualno pristupiti. Jasno mu dati do znanja što se očekuje i provjeriti razumije li. Izbjegavati čitanje nepoznatog teksta. Prepisivanje svesti na minimum. Potrebno mu je češće usmjeravati pažnju na zadanu aktivnost. Omogućiti više vremena za zadatak. Složene zadatke potrebno je podijeliti u više manjih. Omogućiti mu kratke predahe više puta tijekom nastave. Poticati ga pohvalom i istaknuti ga u aktivnostima u kojima je uspješan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6:58:23Z</dcterms:created>
  <dc:creator>dsp</dc:creator>
  <dc:description/>
  <dc:language>en-US</dc:language>
  <cp:lastModifiedBy>Marta Klobučar</cp:lastModifiedBy>
  <dcterms:modified xsi:type="dcterms:W3CDTF">2019-12-16T11:14:00Z</dcterms:modified>
  <cp:revision>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